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45A-6450-480C-BB2B-AA55C3F0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7FC-857E-4793-836A-71DC37B3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ABF-AB28-4329-98D2-1383D51E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062-9148-43A2-9F47-2F8D6A47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6E2-0085-4E1D-8572-855A897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CB7-BE8B-425D-87B9-1A81E6BD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99E-ACC6-43DE-8A0B-7F6B99E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ABD-1E71-4915-93FF-6A6C219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577-819B-465D-8541-E878F6A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CD8-5CBF-4438-A988-FD2EE3A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E21-638F-4793-BC37-7C5D92D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D30-1206-4ED0-9328-F8E6238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9A1-CB63-4896-A11A-2EB42022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341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8:12:24Z</dcterms:created>
  <dc:creator>Maria Arespacochaga Maroto</dc:creator>
  <dc:description/>
  <dc:language>en-US</dc:language>
  <cp:lastModifiedBy>Maria</cp:lastModifiedBy>
  <dcterms:modified xsi:type="dcterms:W3CDTF">2006-10-21T17:50:53Z</dcterms:modified>
  <cp:revision>3</cp:revision>
  <dc:subject/>
  <dc:title>Presentación de PowerPoint</dc:title>
</cp:coreProperties>
</file>